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E73-AC83-40D4-AD6D-22F9E1C2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786-5E67-46DD-81F2-62F158AC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363-B90D-43DE-B8F1-E5766B43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EC6-97AA-43D0-B92E-456FE869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1125-442D-47E1-8F6A-95A4D372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48B0-BA5F-45FE-B02E-4512992F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2CE8-A4FF-4533-914B-CC8080D5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E832-2355-4613-B4B1-DD6533D3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22DB-A1E4-4651-A74D-9E65C17A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5CFC-DFC7-420A-A0EB-BC011226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85DA-65C8-4AA4-A4B8-23F66CE5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055-E509-4129-9382-BD983A7C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E027-BA98-447F-9319-5308AB55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0EDF-96AC-4A17-A781-0602329D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4C34-78BE-4015-869A-81FDED67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31CD-4AE8-47DF-8655-A04FDAFF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F709-F861-4542-A429-8659C1B4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908-6BB7-48F6-8515-9FB7285B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D25-8128-4566-991E-FD0EF2F8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400-4805-437B-B070-512744E4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807-9B3B-4684-9AD0-F784F5AA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2BB-F8CD-4067-BF3E-8EE087C6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FB2-43E8-45B7-89DD-3531371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2D3-9E11-4A85-AF97-41B6B8AE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6127-AB44-4944-A14A-4B43E2F470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D639-F99E-49DA-90C1-4766D580C8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cient.gerodot.ru/" TargetMode="External"/><Relationship Id="rId2" Type="http://schemas.openxmlformats.org/officeDocument/2006/relationships/hyperlink" Target="http://ellada.spb.ru/" TargetMode="External"/><Relationship Id="rId3" Type="http://schemas.openxmlformats.org/officeDocument/2006/relationships/hyperlink" Target="http://ellada.spb.ru/" TargetMode="External"/><Relationship Id="rId4" Type="http://schemas.openxmlformats.org/officeDocument/2006/relationships/hyperlink" Target="http://ellada.spb.ru/" TargetMode="External"/><Relationship Id="rId5" Type="http://schemas.openxmlformats.org/officeDocument/2006/relationships/hyperlink" Target="http://ellada.spb.ru/" TargetMode="External"/><Relationship Id="rId6" Type="http://schemas.openxmlformats.org/officeDocument/2006/relationships/hyperlink" Target="http://ellada.spb.r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904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Mistral"/>
              </a:rPr>
              <a:t>БОГИНИ ОЛИМПА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Выполнила студентка 4 курса филологического факультет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Дзюба Мар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stral"/>
              </a:rPr>
              <a:t>Сыктывкар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62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Mistral"/>
              </a:rPr>
              <a:t>ОСНОВОПОЛАГАЮЩИЙ ВОПРО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stral"/>
              </a:rPr>
              <a:t>СУЩЕСТВУЕТ ЛИ БОЖЕСТВЕННОЕ НАЧАЛО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Mistral"/>
              </a:rPr>
              <a:t>ПРОБЛЕМНЫЕ ВОПРОС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КАК ЗОВУТ ГЛАВНУЮ БОГИНЮ НА ОЛИМП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- КАКАЯ БОГИНЯ БЫЛА ОЛИЦЕТВОРЕНИЕМ ДОМАШНЕГО ОЧАГ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КАК ЗОВУТ САМУЮ МУДРУЮ БОГИНЮ</a:t>
            </a: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КТО ИЗ БОГИНЬ ОЛИЦЕТВОРЯЛ ЛЮБОВЬ И КРАСОТУ</a:t>
            </a: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КАКОЙ БОГИНЕ ПОКЛАНЯЛИСЬ ЗЕМЛЕДЕЛЬЦ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-КАК ЗОВУТ БОГИНЮ ЛУНЫ, ОХОТЫ И ПОКРОВИТЕЛЬНИЦУ СУПРУЖЕ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94284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Mistral"/>
              </a:rPr>
              <a:t>ДИДАКТИЧЕСКИЕ ЦЕЛИ ПРОЕКТ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ОЗНАКОМИТЬ ДЕТЕЙ С МИФОЛОГИЕЙ ДРЕВНЕЙ ГРЕЦ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НАУЧИТЬ ДЕТЕЙ РАЗЛИЧАТЬ БОГИНЬ ДРЕВНЕГРЕЧЕСКОЙ МИФОЛОГ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Mistral"/>
              </a:rPr>
              <a:t>ЭТАПЫ ПРЕДСТОЯЩЕЙ РАБОТ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ВЫБОР И ФОРМА ТЕМ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ОИСК ИНФОРМАЦ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САМОСТОЯТЕЛЬНАЯ РАБОТА УЧАЩИХС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ЗАЩИТА ПРОЕК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15200" y="2362320"/>
            <a:ext cx="981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Mistral"/>
              </a:rPr>
              <a:t>НАШ КУРС БУДЕТ ДЛИТЬС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istral"/>
              </a:rPr>
              <a:t>ДВЕ НЕДЕЛИ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04760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46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Mistral"/>
              </a:rPr>
              <a:t>ПРЕДСТАВЛЕНИЕ РЕЗУЛЬТАТОВ ИССЛЕДОВА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ФОТОРЕПОРТАЖ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РЕЗЕНТАЦ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БУКЛЕТ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СОЧИНЕНИЕ, ЭСС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ВЕБ-САЙТ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110120" y="2619360"/>
            <a:ext cx="92376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703dff"/>
                </a:solidFill>
                <a:latin typeface="Mistral"/>
              </a:rPr>
              <a:t>ИНФОРМАЦИОННЫЕ РЕСУРСЫ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Бахтина О.И. Задания для самостоятельной работы по истории древнего мира. М.: Просвещение, 198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ванов Н.Н. 300 вопросов и ответов о мифологии. Ярославль: Академия развития, 199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ancient.gerodot.r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ellada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spb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r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http://ru.wikipedia.org/wiki/%D0%AD%D0%BB%D0%BB%D0%B8%D0%BD%D1%81%D0%BA%D0%B8%D0%B5_%D0%B1%D0%BE%D0%B3%D0%B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9:07:3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